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E9C-EF0D-40A6-914C-ED6E5D47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2A3-4984-444F-B958-D8A1CE2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8F2-ABC0-48FD-9B38-4491C7AF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A25-691C-43AC-B2C5-1864F430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4231-3064-4A39-B752-E80E2B7F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A5F9-EA6C-4A0F-A14A-CF35FAC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8001-5D3C-4932-B79F-A15958B7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99C4-D920-4A51-8341-73C3CCD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0237-E568-43E5-BB98-C63C20B6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E307-005F-4B04-AD3C-D6BB6998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1F5C-DFED-4C22-8C92-996F5FE1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A46-9231-46D9-BA85-179FE16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2D1D-102C-49CF-9B3D-71B46C9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09D7-DD91-493E-9F9D-2B6F5781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11D3-C6E1-4A49-A2B2-FD369C4A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7AEB-3492-4ACB-947F-C9F8767A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AF0-2B26-4057-9C38-5F73BC8B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4D5-BF0B-4A62-8DB8-7CD17803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DD5-89D8-4E6C-9F86-4734E22D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67E-9214-42E9-A26A-C55FAD8C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D07-A2A7-4855-B333-354A4C72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9FD-35C6-45A2-945B-B935936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F2B-F5B5-4FFA-A8F8-EEB6F237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54E-8247-4DDB-B765-462D8582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FC05-2A0B-462E-8CDB-E20493ED7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4CB9-025E-4FAF-89F5-AEC2F7FD5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M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  <a:ea typeface="Arial"/>
              </a:rPr>
              <a:t>í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Ca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: Leah Tal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garaje es fabuloso y nue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72200" cy="41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s una mansi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ó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n.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 mansión es grande y boni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51818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cocina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cina es estupenda y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a 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sala es antigua y b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517840"/>
            <a:ext cx="541044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medor es increible y mod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ba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es impresionante y gra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4876920" cy="32194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dormitor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dormitorio es bello y vie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3581640" cy="316224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patio es peq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y bon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352760" cy="32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jar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Arial"/>
              </a:rPr>
              <a:t>í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j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es estupendo y  mod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334120" cy="358308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1:23Z</dcterms:created>
  <dc:creator>tallmanlea</dc:creator>
  <dc:description/>
  <dc:language>en-US</dc:language>
  <cp:lastModifiedBy>tallmanlea</cp:lastModifiedBy>
  <dcterms:modified xsi:type="dcterms:W3CDTF">2012-10-25T17:51:24Z</dcterms:modified>
  <cp:revision>4</cp:revision>
  <dc:subject/>
  <dc:title>La Casa Leah Tallman</dc:title>
</cp:coreProperties>
</file>